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F8A-BC72-49D6-A4F9-206367DD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6EE-FB3B-4F94-90E2-B61AE75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8E37-0B47-46B8-85DF-20A1D52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C7A02-73DB-4D0E-9CEF-620FF52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F8765-1941-45BE-82D3-1CEB065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B2269-0928-4D9A-92B8-C49BCD6A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DD03D-DD97-49D8-A765-6D332EA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222A6-21DE-4F02-9D8D-B64801D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8263A-7C7B-43AC-BE3F-3F49F497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128D5-F77D-4FB3-B529-5554932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59DE8-E4EC-4A82-9124-6EAAD857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B30B-85E7-4D2C-9D39-AD79BCCD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E10-9859-4D14-9ACC-127B6EFF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F8A1-FBE1-4A8B-91FD-14EAE09D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A5C8-995E-43D2-9026-7A1CEEC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D8B4-D651-4439-A002-860C7559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F866F-651F-4F95-B4A9-82BCED8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A166-1CB1-49A9-A23B-B69EBC5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60A12-DD88-4FC9-840A-44E8F89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0445-B14C-446E-9988-5669A7A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64B9F-BD6B-450B-9186-9090949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8647D-781F-4635-B94B-38C1D90F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88ACD-F542-4435-918B-6FE0C539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90B-7C0E-43F3-BD2A-5BE26316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F1E1-F47C-4FE2-B3B4-F76D38D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21BC-F370-4C23-8E75-1584D8A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98F7A-BE96-4C11-A3A6-D16C17F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033D-1C98-4498-88FC-6529D575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22D2-555E-4A14-8AED-3376FD1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B553-F535-4F80-BDA1-6929303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51E6C-2FC1-4C78-B43D-E88FA90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3A6B-C0CF-4E0F-8B4C-A44CDD9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7708F-CCB0-484F-96D3-64F6A392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B4C8A-3D25-40B1-8FD2-83F64DD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C9E8-30BB-4F16-B3AE-DFEE5584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6482-273D-4A55-B33E-D2F2683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01A90-ACB8-4E43-9F22-92AE128E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AFC20-C99F-4FB0-AE11-4D7D8704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FACDC-F5F1-450A-A155-ABAEC9E9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10BE4-264F-4803-8391-37DEC6F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1AEC4-A1D7-4816-8875-39F61AB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3F148-19CA-4C7E-BF4F-A85F0B75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E35B8-A30B-4198-B94B-192A320F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0433-5BF0-47EA-93AC-4A17296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55F30-A636-4C48-B3D8-182E4A0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2EEA-862E-4976-93B4-6A7FCC9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D8A1C-CE05-42E1-AE52-3BBB98E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1A8D8-64F1-4D0E-A57B-35AB0EC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5D945-2700-4B68-BDE4-6F15DCF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AB76C-8418-494A-90C0-1053C0C3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3EEC6-D7CC-4C39-A495-C942BED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EB22-7857-4699-9B0A-E6E2DB92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F563-C2E4-4327-8CB4-FFDB438F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6A2-6A85-4186-B1D2-333FE3C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B00-5598-489F-AA90-BFCCDA3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696A-8A5E-4F9E-A61E-533869E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579-77FA-4101-A3A2-D38959B9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5BF1-DA5B-4F79-A81B-057602D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150-19AD-4C12-A650-870B3870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9ACC-047A-4C69-8E61-56739395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E07C-F2EC-4337-9E28-D09A303F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8C5-71D2-4E40-8410-78717E66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5224-53CD-4D92-AB25-F7400F65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47E9-A10B-416C-AF5E-541AFD7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B558-3889-43C1-A58A-1646273E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E976-D92B-44A7-9A62-9FCA78C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C551-9B3E-4845-9AE9-3F7D0EE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154-7A4B-4942-B81D-BD872A4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901F-16BC-4F36-B97A-BDFB447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072E-3155-4F9A-B83E-B0DD596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7884-34AE-4F01-9E1A-D0A42E45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9923-8DBB-4C54-948F-7C272D5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BF75-EC6D-48E9-9934-F2741B11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108C-A823-4E32-90AB-94FF306B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582E-33D6-439A-A39E-92A8D573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E5A7-7AD3-4BC7-AC07-444062A8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304B-0385-4BC2-9E58-D5B8F02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2F0A-169D-43FA-BF69-2106C22D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DDE-4137-4024-8731-E705FC0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5C4C-C81A-42C8-94F5-F7DE54A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6615-9C94-47E7-A3F4-E8045D8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8DBE-340B-4923-A378-6FFF14D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EF40-FF5D-4503-A1FA-8A88D54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CFAF-078F-4C75-919C-773C431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B1A6-931F-4FAE-85AA-2F8F10F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56B8-187B-4B4B-865D-3A084B0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D821-C6EF-49FD-87E2-0CFD03D5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C31A-BC31-4FBD-997A-C1B7E09C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F8E0-FC3F-45D0-976A-EDD31FD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D75-4CA0-4958-AFED-A35BE7F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510F-A1D0-47C2-AAF6-BC6702FB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B48E-B444-496A-9275-FAD893AD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9009-CD70-44E3-AA30-BB8714D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3AF12-DC48-4376-8795-806F102A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90AF-5EC4-4C9D-A673-FA208D92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0A245-781D-4A5F-AF18-64C3E82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57D9-3954-4645-BB68-2EDE025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3D23-5880-4267-9195-E34C565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D7D3-A0A5-4C2C-B9F3-19A0A0F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6F20A-0745-4125-9A9D-1B38CED4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8AC-1317-4A06-8230-BCEDFFF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0AAA-4E8A-4EC2-AC95-72C67845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35FE-AE0C-4FDF-A8B7-7482AFF4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EADB-3A84-4797-9A7D-F3B095B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569A-6F24-4FE0-9DE0-7993DE9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6381-C909-433C-AFB2-91F38D1B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17AA-6E53-403C-87C4-9762470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1406-5720-4EA2-B2E0-874FD038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2529-3608-4F8B-AEDC-DBC0117F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669B-F816-46D6-A8E7-F8B8969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B93C-BCC0-4AE3-BD77-2DD2CF7B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97-3F14-4775-9D0C-88E1A2D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9F76-AAE3-4D22-8799-710E4936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0E77-3097-4996-BBC2-B2BA509A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A1C1-DA11-47CC-A06B-77DC0A54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C982-FBB4-42E2-90DA-8BE23A25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3F392-8024-4166-916C-9D2AF8E0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7EE3-B4C9-4137-9FCA-26D651D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D7DA-FDF4-4A9F-BF70-FD40BC3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1383-0767-46D8-8314-C354AC6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0413-48B8-48CF-B36C-045EBB2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36A0-8111-46AD-A09C-1869C4B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970-D38F-4536-A7DB-4A030C68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C783-4BB1-4EBE-96B9-D5912FAA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BB4F-ED22-4329-9C8E-4F2695D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402F-71A4-44E5-BBF6-78DC43F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B87F3-9F31-4040-9AA1-21282D25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42FF-8595-4F6A-BB3C-24677A47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FDCB6-B244-49CD-934B-028F87E4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8CF6-07EB-4037-829B-CF573C5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6B0E0-D7F3-4C41-ADFD-AB10EDCD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9E59-F61E-48C6-932B-361AEB2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DE7BD-0CEE-4574-B97A-137F2DB7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629-93DD-42A0-9349-D8E72B2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5A45A-B1BF-44C9-879C-F8DC3123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D9B10-43DF-4115-BE97-0A3B638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1601-D9F9-48ED-BF9B-A6689C1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AD080-1F49-422B-9FFD-0D484B9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E3670-D1ED-4217-85AC-95439D7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C182-05B5-4D01-9E22-F272FE3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187C-1E2E-4DDB-82DA-713B8FF5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B255-0071-46D3-AE9A-9CF167AE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6E41E-1736-497C-A6EF-A89A7252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86C29-9319-4475-95DC-7A952B04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15B-DB57-41A2-AEED-F9913F57DA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4ACD-75BC-496F-B89E-2A9DB75206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AD7-C101-4379-8D42-7195F0CA5E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3E9-C2EC-4B05-9F8A-8EA873C89C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E2F-419D-489E-87FD-9BB8246B6A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2B1C-48F8-4233-AFAD-4CE01BC8C9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261-C7D2-4485-ABAE-9EA90CA18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6B03-3750-48D1-B728-63E38D293A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184-818A-46A5-ACAF-F75D4FFE50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68C-F233-443D-944F-909284C06A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61F1-63E0-4202-9F60-3AE9A68A76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C5D-0F5E-44A4-8EF3-9A9F079854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8 Keď súmrak halí strá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úmrak halí strá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íchnu údol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tebe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úžby rozhor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úžby rozh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ruža vôňu sv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vôkol rozdá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pieseň vďaku m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tebe prináš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tebe prinášať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d svetom už zľah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prestrela svoj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 patrí vďa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uplynul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uplynul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 teba,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rúcne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válou bez prest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tvoje meno c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tvoje meno ct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1T13:27:50Z</dcterms:modified>
  <cp:revision>61</cp:revision>
  <dc:subject/>
  <dc:title>Je veľký náš Pán, on slávy je Kráľ Nech do všetkých strán  spev vrúcnych znie chvál.</dc:title>
</cp:coreProperties>
</file>